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3671-D677-4FB1-B42D-FC4FC9C41B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1435-5CE8-4383-B31F-89BD9238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754B-C1A3-4986-961C-4B77031C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98BC-A41F-45F8-86C4-679A47E34D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BE87-1C85-4ED5-91B7-4B2832E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7E9D-B194-4FDD-B39D-F6E54D3B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9F21-C693-4160-821D-9C1B00A7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8F54-3117-48F9-95B2-8F62F9D2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563F-EE8D-462A-9053-20416055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697C-843B-4443-9D57-194DE214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53E5-A4B5-4762-ADF9-481B8F89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B47C-4183-4C31-B114-C86F449F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E3E2E-CA84-4A17-9A09-97C552834C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0512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om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pical Rainforest, Tropical Dry Forest, Tropical Grass 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ia Fill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elaS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lsey St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Bio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iome is a major regional complex of similar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ecognized primarily by its dominant plant type and vegetation struc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318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Central America, South America, South East Asia, and West Afr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ar round rain and warm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k damp interiors, lush vegetation, and diverse biotic commun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297180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forest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417680"/>
            <a:ext cx="647712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Dry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845820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India, Africa, South America and Northern Austra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wet and dry seasons that both span about half a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fall is lower overall and highly seaso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year 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Dry Forest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4853" t="10128" r="19802" b="15184"/>
          <a:stretch/>
        </p:blipFill>
        <p:spPr>
          <a:xfrm>
            <a:off x="1143000" y="1371600"/>
            <a:ext cx="6858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-30240"/>
            <a:ext cx="594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Grass Land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referred to as Sav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49600"/>
            <a:ext cx="41148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across stretches of Africa, South America, Australia, and In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 during distinct rainy seas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5181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Grassland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501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06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0-11-04T12:47:16Z</dcterms:modified>
  <cp:revision>3</cp:revision>
  <dc:subject/>
  <dc:title>Biomes Tropical Rainforest, Tropical Dry Forest, Tropical Grass Land</dc:title>
</cp:coreProperties>
</file>